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76120" y="1233000"/>
            <a:ext cx="4444920" cy="333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1FFB-37B7-4380-924E-0F4FC3649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B8EE-2665-4E92-BD86-4C0A8C3E70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827F-E1F2-4E30-86ED-4BF95A928A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D554-9D71-4825-A468-BF5B3221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479-4423-475F-A5BD-32830E55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1893-7CA0-401C-B076-7EF73E7F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672B-DD1D-4EBE-8DBE-78436D51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8207-BD6D-4107-927D-7F6C7F48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A2DB-1E35-48AC-8D05-8A930180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6E74-A42D-45FE-8F26-E533F331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0127-1CB4-4175-9460-B032E1BB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B4B5-DD50-4650-B74B-3E3F538E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2019-7940-405A-8BF6-5B36F2C6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F8C6-9225-489B-A964-286CF790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B31-8248-4F20-9B19-5360AE8F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F314-3C09-40BB-BA71-D097F966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9ED0-9FA3-42DC-B09B-012EEF2C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9865-1875-4D7C-A719-68ACC69A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2555-0B7E-46CB-8356-5E0B8387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9D5E-D230-437B-B7FF-BEEB35AB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430-56DC-4E46-8362-920C56B7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77A8-0F9B-460D-9FDA-C42DA3CC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AE25-1529-4C39-8245-9DF86F90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B32D-392C-4824-BE19-FED19C3C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1503-E395-43A3-90FE-77109C6F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F14-BD7C-4C15-8AF1-3A5E57ED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F58-12BC-46D1-A61A-90FDA907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0F13-41CA-48A8-89AC-00194D777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682E-A5D5-41CF-BCA3-C71A7535A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0"/>
          <p:cNvSpPr/>
          <p:nvPr/>
        </p:nvSpPr>
        <p:spPr>
          <a:xfrm>
            <a:off x="34920" y="0"/>
            <a:ext cx="914400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672000" y="5996160"/>
            <a:ext cx="5472000" cy="862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Felicien  AMAKPE (PhD, CR-CAM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eranger K. AWESSOU (CIF-Zou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78920" y="1628280"/>
            <a:ext cx="8713800" cy="2737080"/>
          </a:xfrm>
          <a:prstGeom prst="rect">
            <a:avLst/>
          </a:prstGeom>
          <a:solidFill>
            <a:srgbClr val="ffcc66"/>
          </a:solidFill>
          <a:ln w="9360">
            <a:solidFill>
              <a:srgbClr val="3366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Foresterie urbaine et péri urbaine dans le Z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0" y="4365720"/>
            <a:ext cx="9144000" cy="0"/>
          </a:xfrm>
          <a:prstGeom prst="line">
            <a:avLst/>
          </a:prstGeom>
          <a:ln w="1015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17"/>
          <p:cNvSpPr/>
          <p:nvPr/>
        </p:nvSpPr>
        <p:spPr>
          <a:xfrm flipV="1">
            <a:off x="0" y="1557360"/>
            <a:ext cx="9144000" cy="71280"/>
          </a:xfrm>
          <a:prstGeom prst="line">
            <a:avLst/>
          </a:prstGeom>
          <a:ln w="1015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5320" y="34560"/>
            <a:ext cx="8906040" cy="10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cc66"/>
                </a:solidFill>
                <a:latin typeface="Arial"/>
              </a:rPr>
              <a:t>Contraintes de mise en œuvre des programmes de foresterie urbaine et périurbaine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5320" y="2133720"/>
            <a:ext cx="89060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traintes administratives et institutionnel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traintes foncières et compétition avec les habita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traintes sociales et culturel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traintes techniques et environnement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8800" y="1341360"/>
            <a:ext cx="89168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éfis d’une œuvre obligatoire de D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Gestion des espaces urbains: Le « civisme »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ffectation programmée des occupations du s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Plan stratégique de FU par commu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Gestion des espaces reboisés par les commu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Gestion des réseaux routiers, et infrastructu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viction et appropriation des mairies des espac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Pauvreté et besoins de survie: 63% sans éduc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Historiques et perception de l’arbre et biens publ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es difficultés spécifiques de survie des forêts et arbres en milieux urbai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cc66"/>
                </a:solidFill>
                <a:latin typeface="Arial"/>
              </a:rPr>
              <a:t>Quelle stratégie de développement de la FU </a:t>
            </a:r>
            <a:br>
              <a:rPr sz="3000"/>
            </a:br>
            <a:r>
              <a:rPr b="1" lang="fr-FR" sz="3000" spc="-1" strike="noStrike">
                <a:solidFill>
                  <a:srgbClr val="ffcc66"/>
                </a:solidFill>
                <a:latin typeface="Arial"/>
              </a:rPr>
              <a:t>dans le Zou???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560" y="1328760"/>
            <a:ext cx="90295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es Outils stratégiqu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Plan global d’occupation des esp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buClr>
                <a:srgbClr val="00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ffectation des espaces ve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buClr>
                <a:srgbClr val="00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Habitation et réseaux connex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buClr>
                <a:srgbClr val="00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Réseaux routiers et infrastruct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buClr>
                <a:srgbClr val="00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Gestion des déche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Plan de Gestion des plantations et espaces publiqu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buClr>
                <a:srgbClr val="00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Gestion des plantations privées commu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buClr>
                <a:srgbClr val="00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artographie des espaces, arbres et forêts de références (akaba, Agadja, collectivité, sacré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buClr>
                <a:srgbClr val="00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Gestion des espaces et forêts hérités actuel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-4680" y="18900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cc66"/>
                </a:solidFill>
                <a:latin typeface="Arial"/>
              </a:rPr>
              <a:t>Stratégie de développement de la FU dans le Zou 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Image 1" descr=""/>
          <p:cNvPicPr/>
          <p:nvPr/>
        </p:nvPicPr>
        <p:blipFill>
          <a:blip r:embed="rId1"/>
          <a:stretch/>
        </p:blipFill>
        <p:spPr>
          <a:xfrm>
            <a:off x="6300720" y="1341360"/>
            <a:ext cx="269712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cc66"/>
                </a:solidFill>
                <a:latin typeface="Arial"/>
              </a:rPr>
              <a:t>Exigences d’une stratégie de développement de FU/PU dans le Zou  </a:t>
            </a:r>
            <a:br>
              <a:rPr sz="3000"/>
            </a:b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8" name="Image 1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4680"/>
            <a:ext cx="9144000" cy="9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cc66"/>
                </a:solidFill>
                <a:latin typeface="Arial"/>
              </a:rPr>
              <a:t>Objectifs de la stratégie de développement de la FU et PU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Image 4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9160" y="1196640"/>
            <a:ext cx="8905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Place de l’arbres et des FU dans les OD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es indice de développement et d’espérance de v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Nécessité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Transversalisations des affectation des espaces pendant les lotiss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Mise en place des  xyloducs au même titre que les eau, courant, téléphone, et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es plans stratégiques communaux de développement de la foresterie urbai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cc66"/>
                </a:solidFill>
                <a:latin typeface="Arial"/>
              </a:rPr>
              <a:t>Conclusion 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mage 1" descr=""/>
          <p:cNvPicPr/>
          <p:nvPr/>
        </p:nvPicPr>
        <p:blipFill>
          <a:blip r:embed="rId1"/>
          <a:stretch/>
        </p:blipFill>
        <p:spPr>
          <a:xfrm>
            <a:off x="739800" y="198360"/>
            <a:ext cx="7664400" cy="6461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6360" y="2781360"/>
            <a:ext cx="7991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c000"/>
                </a:solidFill>
                <a:latin typeface="Bodoni MT"/>
              </a:rPr>
              <a:t>Sincères remerciements 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7520" y="23400"/>
            <a:ext cx="3597480" cy="59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66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Introduction et contex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perçu des domaines de la Foresterie urbaine et péri urbaine dans les communes du Zou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ributions des journées environnementales à la FU dans les communes du ZO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raintes de mise en œuvre des programmes de foresterie urbaine et périurbai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égie de développement d’une FU durable dans le ZO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clusio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ffcc66"/>
                </a:solidFill>
                <a:latin typeface="Arial"/>
              </a:rPr>
              <a:t>Introduction et contexte 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040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éfinition de la Forêt urbaine et Périurbaine (PU)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resterie urbaine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resterie Péri urbaine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u Bénin et Zou: FU : reliquat d’espace passivement obtenu, abandonné après les urgences de vie au jour le jour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3240" y="1052280"/>
            <a:ext cx="89060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Arial"/>
              </a:rPr>
              <a:t>Une population grandissante en situation de survie urgente partou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Arial"/>
              </a:rPr>
              <a:t>Les besoins et leur hiérarchis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Arial"/>
              </a:rPr>
              <a:t>Cas des besoins en énergie domestiqu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Arial"/>
              </a:rPr>
              <a:t>Absences de plans d’occupations face à la banlieudis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Arial"/>
              </a:rPr>
              <a:t>Une extension horizontale des habita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Arial"/>
              </a:rPr>
              <a:t>Un cadre législatif inconnu de tous les acteu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Arial"/>
              </a:rPr>
              <a:t>Une solution au bien être par les foresteries urbain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buClr>
                <a:srgbClr val="00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Arial"/>
              </a:rPr>
              <a:t>Bois de servi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buClr>
                <a:srgbClr val="00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Arial"/>
              </a:rPr>
              <a:t>Esthét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buClr>
                <a:srgbClr val="00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Arial"/>
              </a:rPr>
              <a:t>Besoins alimentai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  <a:ea typeface="Arial"/>
              </a:rPr>
              <a:t>Etc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ffcc66"/>
                </a:solidFill>
                <a:latin typeface="Arial"/>
              </a:rPr>
              <a:t>Introduction et contexte 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98480" y="119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Domaines administratifs et sacré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930320"/>
          <a:ext cx="9109080" cy="4826160"/>
        </p:xfrm>
        <a:graphic>
          <a:graphicData uri="http://schemas.openxmlformats.org/drawingml/2006/table">
            <a:tbl>
              <a:tblPr/>
              <a:tblGrid>
                <a:gridCol w="2268360"/>
                <a:gridCol w="2214720"/>
                <a:gridCol w="1011240"/>
                <a:gridCol w="2030400"/>
                <a:gridCol w="1584360"/>
              </a:tblGrid>
              <a:tr h="727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5c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es concerné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5c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bre forê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5c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erficie totale (h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5c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one humide (h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5ce7"/>
                    </a:solidFill>
                  </a:tcPr>
                </a:tc>
              </a:tr>
              <a:tr h="8809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êts communal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5c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utes les communes sauf Bohic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2f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2f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 556,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2f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2f6"/>
                    </a:solidFill>
                  </a:tcPr>
                </a:tc>
              </a:tr>
              <a:tr h="870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êts communautai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5c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vè et Zagnan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uinh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6 1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a"/>
                    </a:solidFill>
                  </a:tcPr>
                </a:tc>
              </a:tr>
              <a:tr h="14673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êts sacré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5c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hicon, Zangnanado, Zogbodomey Abmey, Cove, Djidja, Agbagnizou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2f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2f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2f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2f6"/>
                    </a:solidFill>
                  </a:tcPr>
                </a:tc>
              </a:tr>
              <a:tr h="8805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êts classées Périmètres de reboisemen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5c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ogbodomey, Abomey, Djidja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a"/>
                    </a:solidFill>
                  </a:tcPr>
                </a:tc>
              </a:tr>
            </a:tbl>
          </a:graphicData>
        </a:graphic>
      </p:graphicFrame>
      <p:sp>
        <p:nvSpPr>
          <p:cNvPr id="108" name="Rectangle 1"/>
          <p:cNvSpPr/>
          <p:nvPr/>
        </p:nvSpPr>
        <p:spPr>
          <a:xfrm>
            <a:off x="403200" y="28440"/>
            <a:ext cx="856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cc66"/>
                </a:solidFill>
                <a:latin typeface="Arial"/>
              </a:rPr>
              <a:t>Aperçu des domaines de la Foresterie urbaine et péri urbaine dans les communes du Zou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71640" y="1125000"/>
            <a:ext cx="5400720" cy="5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Domaines des privés et aut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11280" y="1719360"/>
          <a:ext cx="8064360" cy="4771800"/>
        </p:xfrm>
        <a:graphic>
          <a:graphicData uri="http://schemas.openxmlformats.org/drawingml/2006/table">
            <a:tbl>
              <a:tblPr/>
              <a:tblGrid>
                <a:gridCol w="3601800"/>
                <a:gridCol w="4462560"/>
              </a:tblGrid>
              <a:tr h="7952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s plantation privées individuell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one urbaines et péri urbaines des commun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7952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ces public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tes les commun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7956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ces verts aménagé par les population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tes les commun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52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boisement dans les habitation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tes les commun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  <a:tr h="7952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ltures et jardin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tes les commun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52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es sacrés des collectivité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s maisons royales et couvent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11" name="Rectangle 5"/>
          <p:cNvSpPr/>
          <p:nvPr/>
        </p:nvSpPr>
        <p:spPr>
          <a:xfrm>
            <a:off x="291960" y="-28440"/>
            <a:ext cx="8560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cc66"/>
                </a:solidFill>
                <a:latin typeface="Arial"/>
              </a:rPr>
              <a:t>Aperçu des domaines de la Foresterie urbaine et péri urbaine dans les communes du Zou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5320" y="963720"/>
            <a:ext cx="73803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Contribution des Journées Nationales de l’Arbr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5280" y="1658880"/>
          <a:ext cx="8831520" cy="5089680"/>
        </p:xfrm>
        <a:graphic>
          <a:graphicData uri="http://schemas.openxmlformats.org/drawingml/2006/table">
            <a:tbl>
              <a:tblPr/>
              <a:tblGrid>
                <a:gridCol w="955800"/>
                <a:gridCol w="1322280"/>
                <a:gridCol w="2851200"/>
                <a:gridCol w="1460520"/>
                <a:gridCol w="2241720"/>
              </a:tblGrid>
              <a:tr h="749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E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TES OFFICIE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SENC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MBRE DE PLANT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ERFICI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RE LINEA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872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utes les commu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k,  Gmelina, Khaya, Terminali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 6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67 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954 M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fff"/>
                    </a:solidFill>
                  </a:tcPr>
                </a:tc>
              </a:tr>
              <a:tr h="6872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outes les commu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k, Gmelina, Eucalyptus,  Khaya, Terminalia, Ceiba, et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 9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6 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14 m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901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outes les commu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k, Gmelina, Khaya, Terminalia, Ceiba, Afzelia, Park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25 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930 M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fff"/>
                    </a:solidFill>
                  </a:tcPr>
                </a:tc>
              </a:tr>
              <a:tr h="6876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outes les commu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tona, Acacia, Khaya, Pterocarpus, Ceib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1 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66 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082 M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6872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outes les commu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ighia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k,  Gmelina, Kha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1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98 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46 M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fff"/>
                    </a:solidFill>
                  </a:tcPr>
                </a:tc>
              </a:tr>
              <a:tr h="68904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Zou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5 8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7,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 8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114" name="Rectangle 4"/>
          <p:cNvSpPr/>
          <p:nvPr/>
        </p:nvSpPr>
        <p:spPr>
          <a:xfrm>
            <a:off x="395280" y="-34920"/>
            <a:ext cx="856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cc66"/>
                </a:solidFill>
                <a:latin typeface="Arial"/>
              </a:rPr>
              <a:t>Aperçu des domaines de la Foresterie urbaine et péri urbaine dans les communes du Zou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5320" y="1125000"/>
            <a:ext cx="8569080" cy="7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Contribution des autres journées environnementales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(2020-2022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95280" y="-34920"/>
            <a:ext cx="856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cc66"/>
                </a:solidFill>
                <a:latin typeface="Arial"/>
              </a:rPr>
              <a:t>Aperçu des domaines de la Foresterie urbaine et péri urbaine dans les communes du Zou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760" y="1989000"/>
          <a:ext cx="8906040" cy="3389400"/>
        </p:xfrm>
        <a:graphic>
          <a:graphicData uri="http://schemas.openxmlformats.org/drawingml/2006/table">
            <a:tbl>
              <a:tblPr/>
              <a:tblGrid>
                <a:gridCol w="746280"/>
                <a:gridCol w="744480"/>
                <a:gridCol w="745920"/>
                <a:gridCol w="744840"/>
                <a:gridCol w="745920"/>
                <a:gridCol w="744480"/>
                <a:gridCol w="746280"/>
                <a:gridCol w="744480"/>
                <a:gridCol w="727200"/>
                <a:gridCol w="725400"/>
                <a:gridCol w="744480"/>
                <a:gridCol w="746280"/>
              </a:tblGrid>
              <a:tr h="1970280">
                <a:tc grid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Journée Internationale des Forêt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21 mar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ffff"/>
                      </a:solidFill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Journée Internationale de la diversité biologique (22 ma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solidFill>
                      <a:srgbClr val="36363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Journée Inter force et Mondiale de l'Environnemen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05 jui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Journée mondiale de lutte contre la désertification et la sécheress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17 jui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00ffff"/>
                      </a:solidFill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solidFill>
                      <a:srgbClr val="36363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ffff"/>
                      </a:solidFill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solidFill>
                      <a:srgbClr val="36363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solidFill>
                      <a:srgbClr val="36363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solidFill>
                      <a:srgbClr val="36363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solidFill>
                      <a:srgbClr val="36363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solidFill>
                      <a:srgbClr val="36363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00ffff"/>
                      </a:solidFill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solidFill>
                      <a:srgbClr val="363636"/>
                    </a:solidFill>
                  </a:tcPr>
                </a:tc>
              </a:tr>
              <a:tr h="782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4320">
                      <a:solidFill>
                        <a:srgbClr val="00ffff"/>
                      </a:solidFill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solidFill>
                      <a:srgbClr val="36363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solidFill>
                      <a:srgbClr val="36363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solidFill>
                      <a:srgbClr val="36363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4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1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6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solidFill>
                      <a:srgbClr val="36363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solidFill>
                      <a:srgbClr val="36363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4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00ffff"/>
                      </a:solidFill>
                    </a:lnR>
                    <a:lnT w="4320">
                      <a:solidFill>
                        <a:srgbClr val="00ffff"/>
                      </a:solidFill>
                    </a:lnT>
                    <a:lnB w="4320">
                      <a:solidFill>
                        <a:srgbClr val="00ffff"/>
                      </a:solidFill>
                    </a:lnB>
                    <a:solidFill>
                      <a:srgbClr val="36363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5720" y="34920"/>
            <a:ext cx="867564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cc66"/>
                </a:solidFill>
                <a:latin typeface="Arial"/>
              </a:rPr>
              <a:t>Quelle évaluation des Journées??? 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5320" y="1484280"/>
            <a:ext cx="89060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Objectifs des journées atteints: consciences de la  nécessité de vivre en harmonie avec les arbres et les produits de la forê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es produits des Journées considérés comme héritage forcé à gaspil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Gestions échouées des espaces communaux abandonnés par tous au profit de to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Quelle responsabilité des communes en matière de gestion des reboisements issus des journée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18:00:55Z</dcterms:created>
  <dc:creator>Famakpe</dc:creator>
  <dc:description/>
  <cp:keywords>SHB Varroa Nosema Tropical beekeeping socio-economic impacts</cp:keywords>
  <dc:language>en-US</dc:language>
  <cp:lastModifiedBy>MR AFFEDJOU</cp:lastModifiedBy>
  <cp:lastPrinted>2022-08-11T07:01:31Z</cp:lastPrinted>
  <dcterms:modified xsi:type="dcterms:W3CDTF">2022-08-11T12:38:06Z</dcterms:modified>
  <cp:revision>489</cp:revision>
  <dc:subject>Epidemiologic relationships</dc:subject>
  <dc:title>PowerPoint Presentation</dc:title>
</cp:coreProperties>
</file>